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49B1-70DE-479D-A29B-317CF29E6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CEC5-DD0C-40B6-9B2E-2D0D4A862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834E-FBD6-41F2-9F50-E86E5403D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1E9F-1A25-4929-A87E-907AAEBA3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18E77-37FE-4667-9EB9-7FA028809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09623-DEF9-4BA0-AE1F-E44E03C90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2E5CF-46C9-4169-96CB-98E96301F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32DA2-3B3B-49EE-A115-3FBF9DE0A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83D72-8215-4940-8CAC-832E5DDB5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DB10B-AE3E-4415-A46B-AC57B2FD0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A4BBB-8BDD-4DE8-8089-5AE181A82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04D9-38A5-43F6-AC97-9E0B406C1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1FB62-7B11-4232-85E9-D6E80C43D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E3E2E-1830-49EC-9318-E69B9C687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3726A-74DD-47D0-A774-5478B53BD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D5EDB-5874-4042-8473-9A13F4A9E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CA9C0-CF3F-4C87-9D97-0E11EE917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58CA-B18A-4F49-80B4-DFDAB6266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FA57-804C-4823-9317-DFE9EFCD0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E39F-EDD9-4DA8-B16C-936F954A0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6386-47DD-494B-9C60-70EB625C4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9E4F-1813-4DA7-8176-6BE8F26BE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913D-CF21-4B13-9BD7-9651CED45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0EF0-5E55-4CA4-A199-1F4DD2E6E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81EF2-6E5A-495A-B5BE-4EF33709630D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EBFBC-AB78-4702-BFE2-C02744A15967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ekton Pro Ext"/>
              </a:rPr>
              <a:t>Johnathan Stewar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advTm="1000"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00"/>
                </a:solidFill>
                <a:latin typeface="Blackadder ITC"/>
              </a:rPr>
              <a:t>I’m good at</a:t>
            </a:r>
            <a:endParaRPr b="0" lang="en-US" sz="6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po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Eras Bold ITC"/>
              </a:rPr>
              <a:t>Video Gam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Stout"/>
              </a:rPr>
              <a:t>Math Probl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">
    <p:checker dir="horz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10199"/>
                </a:solidFill>
                <a:latin typeface="MS Reference Sans Serif"/>
              </a:rPr>
              <a:t>My favorite websites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Verdana"/>
              </a:rPr>
              <a:t>23isback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Curlz MT"/>
              </a:rPr>
              <a:t>Airjordan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ff"/>
                </a:solidFill>
                <a:latin typeface="Arial"/>
              </a:rPr>
              <a:t>Niketalk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419720" y="1600200"/>
            <a:ext cx="2857320" cy="2143080"/>
          </a:xfrm>
          <a:prstGeom prst="rect">
            <a:avLst/>
          </a:prstGeom>
          <a:ln w="0">
            <a:noFill/>
          </a:ln>
        </p:spPr>
      </p:pic>
    </p:spTree>
  </p:cSld>
  <p:transition advTm="1000">
    <p:checker dir="horz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768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" dur="768" fill="hold"/>
                                        <p:tgtEl>
                                          <p:spTgt spid="10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8" dur="768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0" dur="768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Rockwell"/>
              </a:rPr>
              <a:t>My favorite teacher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Brandy De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Kim L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rs. Smi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">
    <p:checker dir="horz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Tw Cen MT Condensed"/>
              </a:rPr>
              <a:t>If I could I would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oper Std Black"/>
              </a:rPr>
              <a:t>I would lower gas prices to 1 dolla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ff"/>
                </a:solidFill>
                <a:latin typeface="Arial Narrow"/>
              </a:rPr>
              <a:t>I would make Ozen have off campus lun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oper Std Black"/>
              </a:rPr>
              <a:t>I would make the world a better pl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">
    <p:checker dir="horz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99ff"/>
                </a:solidFill>
                <a:latin typeface="Gigi"/>
              </a:rPr>
              <a:t>In 10 years I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Giddyup Std"/>
              </a:rPr>
              <a:t>I will be ri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French Script MT"/>
              </a:rPr>
              <a:t>I will have a lion in the backyard for people who want to ste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rajan Pro"/>
              </a:rPr>
              <a:t>I will have 4 vehi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">
    <p:checker dir="horz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Rockwell Extra Bold"/>
              </a:rPr>
              <a:t>My favorite athletes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Franklin Gothic Demi"/>
              </a:rPr>
              <a:t>Kobe Brya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Rounded MT Bold"/>
              </a:rPr>
              <a:t>Vince Car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Orator Std"/>
              </a:rPr>
              <a:t>Baron Dav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276720" y="1219320"/>
            <a:ext cx="2571480" cy="22860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733920" y="3581280"/>
            <a:ext cx="2571480" cy="22860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6248520" y="3581280"/>
            <a:ext cx="2571480" cy="2286000"/>
          </a:xfrm>
          <a:prstGeom prst="rect">
            <a:avLst/>
          </a:prstGeom>
          <a:ln w="0">
            <a:noFill/>
          </a:ln>
        </p:spPr>
      </p:pic>
    </p:spTree>
  </p:cSld>
  <p:transition advTm="1000">
    <p:checker dir="horz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1T15:34:28Z</dcterms:created>
  <dc:creator>762913</dc:creator>
  <dc:description/>
  <dc:language>en-US</dc:language>
  <cp:lastModifiedBy>762913</cp:lastModifiedBy>
  <dcterms:modified xsi:type="dcterms:W3CDTF">2008-10-23T15:45:55Z</dcterms:modified>
  <cp:revision>7</cp:revision>
  <dc:subject/>
  <dc:title>Johnathan Stewart</dc:title>
</cp:coreProperties>
</file>